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8A1-D330-47D4-9A34-9AFB0289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74A-34D7-4E4E-A7FA-8996A6E3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3FD-473B-4541-91AD-49FDDDDD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056-755A-42BA-8EB4-CD9D4B1B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FDF-103E-4216-B295-46F6C6D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44F-9CB8-40DF-8D77-EB61680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15A-7D1D-4CB3-88F3-3CB39E2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547-991D-4FBA-953C-AA06CB1E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C81-B48C-48D9-AA2B-BF06BE5A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C6B-8132-4C30-A5D8-A80274C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D0D-9283-4A5C-98B9-BE21527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D77-7B2B-4B9C-A944-970AE72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AD2-85C2-4FB2-B3F0-59255935F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" Target="slide23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21.xml"/><Relationship Id="rId26" Type="http://schemas.openxmlformats.org/officeDocument/2006/relationships/slide" Target="slide21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27.xml"/><Relationship Id="rId30" Type="http://schemas.openxmlformats.org/officeDocument/2006/relationships/slide" Target="slide27.xml"/><Relationship Id="rId31" Type="http://schemas.openxmlformats.org/officeDocument/2006/relationships/slide" Target="slide31.xml"/><Relationship Id="rId32" Type="http://schemas.openxmlformats.org/officeDocument/2006/relationships/slide" Target="slide31.xml"/><Relationship Id="rId33" Type="http://schemas.openxmlformats.org/officeDocument/2006/relationships/slide" Target="slide33.xml"/><Relationship Id="rId34" Type="http://schemas.openxmlformats.org/officeDocument/2006/relationships/slide" Target="slide33.xml"/><Relationship Id="rId35" Type="http://schemas.openxmlformats.org/officeDocument/2006/relationships/slide" Target="slide29.xml"/><Relationship Id="rId36" Type="http://schemas.openxmlformats.org/officeDocument/2006/relationships/slide" Target="slide29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ank you for playing Jeopardy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mail Mrs. Row with any questions or comments!</a:t>
            </a:r>
            <a:br>
              <a:rPr sz="36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Check with your teacher firs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Alma Row</cp:lastModifiedBy>
  <dcterms:modified xsi:type="dcterms:W3CDTF">2004-09-25T16:49:07Z</dcterms:modified>
  <cp:revision>15</cp:revision>
  <dc:subject/>
  <dc:title>PowerPoint Presentation</dc:title>
</cp:coreProperties>
</file>